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A46E06-FE22-4CE2-9DD8-7B1A80CA82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6BCCCD-7893-48E1-8AEC-C7ACB56B67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4F56E-F17D-4596-9B50-F34CB1B46E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0439D-8D7B-4CA0-AC9C-76B9157055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2B02B-57AF-46E8-81B0-DB3D92D3D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88792-CCF6-4AA5-AA46-0B839CD2C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B030-E223-445A-893F-EF4380D30D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03FE3-5485-40B1-B227-C68E10C9B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6126D7-2F0A-4AA5-AF3C-2DBA38FBA3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64CF3-CF04-482E-BCD2-6A212248B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4408B-19CA-4020-A926-FA63CDBC1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027D2-2840-49D1-9327-61607B86BE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8AE5FDA-796A-44CC-8F25-1308A76633C2}" type="datetime">
              <a:rPr b="0" lang="en-US" sz="1200" spc="-1" strike="noStrike">
                <a:solidFill>
                  <a:srgbClr val="898989"/>
                </a:solidFill>
                <a:latin typeface="Calibri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C89EBD68-D332-4F15-B1D2-8D7BF136A3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ound Same Side Corner Rectangle 4"/>
          <p:cNvSpPr/>
          <p:nvPr/>
        </p:nvSpPr>
        <p:spPr>
          <a:xfrm rot="10800000">
            <a:off x="3440160" y="2664000"/>
            <a:ext cx="558720" cy="90792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ound Same Side Corner Rectangle 5"/>
          <p:cNvSpPr/>
          <p:nvPr/>
        </p:nvSpPr>
        <p:spPr>
          <a:xfrm rot="10800000">
            <a:off x="8292600" y="2801880"/>
            <a:ext cx="559080" cy="91440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Left Bracket 18"/>
          <p:cNvSpPr/>
          <p:nvPr/>
        </p:nvSpPr>
        <p:spPr>
          <a:xfrm rot="16200000">
            <a:off x="8466840" y="4009320"/>
            <a:ext cx="193680" cy="712800"/>
          </a:xfrm>
          <a:custGeom>
            <a:avLst/>
            <a:gdLst>
              <a:gd name="textAreaLeft" fmla="*/ 56880 w 193680"/>
              <a:gd name="textAreaRight" fmla="*/ 194040 w 193680"/>
              <a:gd name="textAreaTop" fmla="*/ 7920 h 712800"/>
              <a:gd name="textAreaBottom" fmla="*/ 704880 h 712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245"/>
                  <a:pt x="0" y="489"/>
                </a:cubicBezTo>
                <a:lnTo>
                  <a:pt x="0" y="21111"/>
                </a:lnTo>
                <a:cubicBezTo>
                  <a:pt x="0" y="21356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TextBox 21"/>
          <p:cNvSpPr/>
          <p:nvPr/>
        </p:nvSpPr>
        <p:spPr>
          <a:xfrm>
            <a:off x="406440" y="2801880"/>
            <a:ext cx="3033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Just grown in liquid culture with no Ampicil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TextBox 23"/>
          <p:cNvSpPr/>
          <p:nvPr/>
        </p:nvSpPr>
        <p:spPr>
          <a:xfrm>
            <a:off x="4705200" y="2813040"/>
            <a:ext cx="308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UC 19 bugs 2XYT in tube and p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TextBox 26"/>
          <p:cNvSpPr/>
          <p:nvPr/>
        </p:nvSpPr>
        <p:spPr>
          <a:xfrm>
            <a:off x="4781520" y="1644480"/>
            <a:ext cx="4216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riment 2:Already transformed  pUC 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Circular Arrow 34"/>
          <p:cNvSpPr/>
          <p:nvPr/>
        </p:nvSpPr>
        <p:spPr>
          <a:xfrm>
            <a:off x="7947000" y="2468520"/>
            <a:ext cx="652320" cy="66672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Circular Arrow 35"/>
          <p:cNvSpPr/>
          <p:nvPr/>
        </p:nvSpPr>
        <p:spPr>
          <a:xfrm>
            <a:off x="3135240" y="2344680"/>
            <a:ext cx="652680" cy="66852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TextBox 36"/>
          <p:cNvSpPr/>
          <p:nvPr/>
        </p:nvSpPr>
        <p:spPr>
          <a:xfrm>
            <a:off x="96840" y="4500720"/>
            <a:ext cx="431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son: Control for input viability( +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37"/>
          <p:cNvSpPr/>
          <p:nvPr/>
        </p:nvSpPr>
        <p:spPr>
          <a:xfrm>
            <a:off x="564840" y="1644480"/>
            <a:ext cx="2872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riment 1:Top 10 no am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1" name="Straight Arrow Connector 40"/>
          <p:cNvCxnSpPr/>
          <p:nvPr/>
        </p:nvCxnSpPr>
        <p:spPr>
          <a:xfrm flipH="1">
            <a:off x="8597520" y="3805200"/>
            <a:ext cx="2160" cy="4644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52" name="TextBox 51"/>
          <p:cNvSpPr/>
          <p:nvPr/>
        </p:nvSpPr>
        <p:spPr>
          <a:xfrm>
            <a:off x="4762440" y="4500720"/>
            <a:ext cx="41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son: To check if plates are ok(+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3"/>
          <p:cNvSpPr/>
          <p:nvPr/>
        </p:nvSpPr>
        <p:spPr>
          <a:xfrm>
            <a:off x="1168560" y="92160"/>
            <a:ext cx="6427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tecting Possible Errors in Bacterial Transformation Protoco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Straight Connector 8"/>
          <p:cNvSpPr/>
          <p:nvPr/>
        </p:nvSpPr>
        <p:spPr>
          <a:xfrm>
            <a:off x="4500720" y="1401840"/>
            <a:ext cx="29880" cy="455112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ound Same Side Corner Rectangle 3"/>
          <p:cNvSpPr/>
          <p:nvPr/>
        </p:nvSpPr>
        <p:spPr>
          <a:xfrm rot="10800000">
            <a:off x="3684600" y="2336760"/>
            <a:ext cx="558720" cy="90648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TextBox 24"/>
          <p:cNvSpPr/>
          <p:nvPr/>
        </p:nvSpPr>
        <p:spPr>
          <a:xfrm>
            <a:off x="1054080" y="2336760"/>
            <a:ext cx="2387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lready transformed  pBR322 bugs 2XYT in tube and plated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TextBox 27"/>
          <p:cNvSpPr/>
          <p:nvPr/>
        </p:nvSpPr>
        <p:spPr>
          <a:xfrm>
            <a:off x="432720" y="1273320"/>
            <a:ext cx="229896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riment 3: pBR3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Left Bracket 6"/>
          <p:cNvSpPr/>
          <p:nvPr/>
        </p:nvSpPr>
        <p:spPr>
          <a:xfrm rot="16200000">
            <a:off x="3805200" y="3406680"/>
            <a:ext cx="187200" cy="914400"/>
          </a:xfrm>
          <a:custGeom>
            <a:avLst/>
            <a:gdLst>
              <a:gd name="textAreaLeft" fmla="*/ 55080 w 187200"/>
              <a:gd name="textAreaRight" fmla="*/ 187560 w 187200"/>
              <a:gd name="textAreaTop" fmla="*/ 7560 h 914400"/>
              <a:gd name="textAreaBottom" fmla="*/ 9068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85"/>
                  <a:pt x="0" y="369"/>
                </a:cubicBezTo>
                <a:lnTo>
                  <a:pt x="0" y="21231"/>
                </a:lnTo>
                <a:cubicBezTo>
                  <a:pt x="0" y="21416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Circular Arrow 7"/>
          <p:cNvSpPr/>
          <p:nvPr/>
        </p:nvSpPr>
        <p:spPr>
          <a:xfrm>
            <a:off x="3359160" y="2001960"/>
            <a:ext cx="652320" cy="66816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0" name="Straight Arrow Connector 8"/>
          <p:cNvCxnSpPr/>
          <p:nvPr/>
        </p:nvCxnSpPr>
        <p:spPr>
          <a:xfrm>
            <a:off x="4008960" y="3259080"/>
            <a:ext cx="1080" cy="53568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1" name="TextBox 53"/>
          <p:cNvSpPr/>
          <p:nvPr/>
        </p:nvSpPr>
        <p:spPr>
          <a:xfrm>
            <a:off x="586800" y="3957480"/>
            <a:ext cx="417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son: To check if plates are ok (+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ound Same Side Corner Rectangle 10"/>
          <p:cNvSpPr/>
          <p:nvPr/>
        </p:nvSpPr>
        <p:spPr>
          <a:xfrm rot="10800000">
            <a:off x="7812000" y="2141640"/>
            <a:ext cx="558720" cy="90792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8"/>
          <p:cNvSpPr/>
          <p:nvPr/>
        </p:nvSpPr>
        <p:spPr>
          <a:xfrm>
            <a:off x="5095440" y="1271520"/>
            <a:ext cx="293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riment 4: SOC ( -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TextBox 31"/>
          <p:cNvSpPr/>
          <p:nvPr/>
        </p:nvSpPr>
        <p:spPr>
          <a:xfrm>
            <a:off x="4927680" y="2335320"/>
            <a:ext cx="2779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5uL of soc +amp+2XYT plat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Left Bracket 13"/>
          <p:cNvSpPr/>
          <p:nvPr/>
        </p:nvSpPr>
        <p:spPr>
          <a:xfrm rot="16200000">
            <a:off x="8043840" y="3405240"/>
            <a:ext cx="187200" cy="914400"/>
          </a:xfrm>
          <a:custGeom>
            <a:avLst/>
            <a:gdLst>
              <a:gd name="textAreaLeft" fmla="*/ 55080 w 187200"/>
              <a:gd name="textAreaRight" fmla="*/ 187560 w 187200"/>
              <a:gd name="textAreaTop" fmla="*/ 7560 h 914400"/>
              <a:gd name="textAreaBottom" fmla="*/ 9068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85"/>
                  <a:pt x="0" y="369"/>
                </a:cubicBezTo>
                <a:lnTo>
                  <a:pt x="0" y="21231"/>
                </a:lnTo>
                <a:cubicBezTo>
                  <a:pt x="0" y="21416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Circular Arrow 14"/>
          <p:cNvSpPr/>
          <p:nvPr/>
        </p:nvSpPr>
        <p:spPr>
          <a:xfrm>
            <a:off x="7485120" y="1808280"/>
            <a:ext cx="652320" cy="66672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46"/>
          <p:cNvSpPr/>
          <p:nvPr/>
        </p:nvSpPr>
        <p:spPr>
          <a:xfrm>
            <a:off x="5067000" y="40863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son: To check for contamin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68" name="Straight Arrow Connector 16"/>
          <p:cNvCxnSpPr/>
          <p:nvPr/>
        </p:nvCxnSpPr>
        <p:spPr>
          <a:xfrm flipH="1">
            <a:off x="8089560" y="3241800"/>
            <a:ext cx="2160" cy="52920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69" name="Straight Connector 18"/>
          <p:cNvSpPr/>
          <p:nvPr/>
        </p:nvSpPr>
        <p:spPr>
          <a:xfrm>
            <a:off x="4753080" y="568440"/>
            <a:ext cx="0" cy="52131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Round Same Side Corner Rectangle 3"/>
          <p:cNvSpPr/>
          <p:nvPr/>
        </p:nvSpPr>
        <p:spPr>
          <a:xfrm rot="10800000">
            <a:off x="3287880" y="1044720"/>
            <a:ext cx="558720" cy="90648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4"/>
          <p:cNvSpPr/>
          <p:nvPr/>
        </p:nvSpPr>
        <p:spPr>
          <a:xfrm>
            <a:off x="397800" y="1031760"/>
            <a:ext cx="163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riment 5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No DNA + bug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( - control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ound Same Side Corner Rectangle 5"/>
          <p:cNvSpPr/>
          <p:nvPr/>
        </p:nvSpPr>
        <p:spPr>
          <a:xfrm rot="10800000">
            <a:off x="7172280" y="1752480"/>
            <a:ext cx="558720" cy="90648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5130000" y="674640"/>
            <a:ext cx="364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periment 6: pUC19 Transform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8"/>
          <p:cNvSpPr/>
          <p:nvPr/>
        </p:nvSpPr>
        <p:spPr>
          <a:xfrm>
            <a:off x="384120" y="2782800"/>
            <a:ext cx="409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son: testing if the TOP10 bugs have been contaminate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Box 9"/>
          <p:cNvSpPr/>
          <p:nvPr/>
        </p:nvSpPr>
        <p:spPr>
          <a:xfrm>
            <a:off x="4862160" y="2890800"/>
            <a:ext cx="44341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Reason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o check pUC19 in the Invitogen kit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esting Invitrogen recommendation,protocol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Circular Arrow 10"/>
          <p:cNvSpPr/>
          <p:nvPr/>
        </p:nvSpPr>
        <p:spPr>
          <a:xfrm>
            <a:off x="2859120" y="733320"/>
            <a:ext cx="652320" cy="66672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5400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7" name="Straight Arrow Connector 12"/>
          <p:cNvCxnSpPr/>
          <p:nvPr/>
        </p:nvCxnSpPr>
        <p:spPr>
          <a:xfrm flipH="1">
            <a:off x="3509640" y="2112480"/>
            <a:ext cx="2160" cy="212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78" name="Left Bracket 14"/>
          <p:cNvSpPr/>
          <p:nvPr/>
        </p:nvSpPr>
        <p:spPr>
          <a:xfrm rot="16200000">
            <a:off x="3419280" y="1864800"/>
            <a:ext cx="187560" cy="914400"/>
          </a:xfrm>
          <a:custGeom>
            <a:avLst/>
            <a:gdLst>
              <a:gd name="textAreaLeft" fmla="*/ 55080 w 187560"/>
              <a:gd name="textAreaRight" fmla="*/ 187920 w 187560"/>
              <a:gd name="textAreaTop" fmla="*/ 7560 h 914400"/>
              <a:gd name="textAreaBottom" fmla="*/ 9068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85"/>
                  <a:pt x="0" y="369"/>
                </a:cubicBezTo>
                <a:lnTo>
                  <a:pt x="0" y="21231"/>
                </a:lnTo>
                <a:cubicBezTo>
                  <a:pt x="0" y="21416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Straight Connector 2"/>
          <p:cNvSpPr/>
          <p:nvPr/>
        </p:nvSpPr>
        <p:spPr>
          <a:xfrm flipH="1">
            <a:off x="4682880" y="223920"/>
            <a:ext cx="20520" cy="5038560"/>
          </a:xfrm>
          <a:prstGeom prst="line">
            <a:avLst/>
          </a:prstGeom>
          <a:ln w="25560">
            <a:solidFill>
              <a:srgbClr val="4f81bd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Left Bracket 15"/>
          <p:cNvSpPr/>
          <p:nvPr/>
        </p:nvSpPr>
        <p:spPr>
          <a:xfrm rot="16200000">
            <a:off x="7322760" y="2507760"/>
            <a:ext cx="187560" cy="914400"/>
          </a:xfrm>
          <a:custGeom>
            <a:avLst/>
            <a:gdLst>
              <a:gd name="textAreaLeft" fmla="*/ 55080 w 187560"/>
              <a:gd name="textAreaRight" fmla="*/ 187920 w 187560"/>
              <a:gd name="textAreaTop" fmla="*/ 7560 h 914400"/>
              <a:gd name="textAreaBottom" fmla="*/ 906840 h 9144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185"/>
                  <a:pt x="0" y="369"/>
                </a:cubicBezTo>
                <a:lnTo>
                  <a:pt x="0" y="21231"/>
                </a:lnTo>
                <a:cubicBezTo>
                  <a:pt x="0" y="21416"/>
                  <a:pt x="10800" y="21600"/>
                  <a:pt x="21600" y="21600"/>
                </a:cubicBezTo>
              </a:path>
            </a:pathLst>
          </a:custGeom>
          <a:noFill/>
          <a:ln w="25560">
            <a:solidFill>
              <a:srgbClr val="4f81bd"/>
            </a:solidFill>
            <a:miter/>
          </a:ln>
          <a:effectLst>
            <a:outerShdw dist="20160" dir="5400000" blurRad="0" rotWithShape="0">
              <a:srgbClr val="80808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1" name="Straight Arrow Connector 16"/>
          <p:cNvCxnSpPr/>
          <p:nvPr/>
        </p:nvCxnSpPr>
        <p:spPr>
          <a:xfrm flipH="1">
            <a:off x="7468920" y="2661840"/>
            <a:ext cx="2160" cy="212040"/>
          </a:xfrm>
          <a:prstGeom prst="straightConnector1">
            <a:avLst/>
          </a:prstGeom>
          <a:ln w="25560">
            <a:solidFill>
              <a:srgbClr val="4f81bd"/>
            </a:solidFill>
            <a:miter/>
            <a:tailEnd len="med" type="arrow" w="med"/>
          </a:ln>
        </p:spPr>
      </p:cxnSp>
      <p:sp>
        <p:nvSpPr>
          <p:cNvPr id="82" name="Circular Arrow 17"/>
          <p:cNvSpPr/>
          <p:nvPr/>
        </p:nvSpPr>
        <p:spPr>
          <a:xfrm rot="3585600">
            <a:off x="6979680" y="1075320"/>
            <a:ext cx="652680" cy="666720"/>
          </a:xfrm>
          <a:prstGeom prst="pie">
            <a:avLst/>
          </a:prstGeom>
          <a:gradFill rotWithShape="0">
            <a:gsLst>
              <a:gs pos="0">
                <a:srgbClr val="9bc1ff"/>
              </a:gs>
              <a:gs pos="100000">
                <a:srgbClr val="3f80cd"/>
              </a:gs>
            </a:gsLst>
            <a:lin ang="1812000"/>
          </a:gradFill>
          <a:ln w="9360">
            <a:solidFill>
              <a:srgbClr val="4a7ebb"/>
            </a:solidFill>
            <a:miter/>
          </a:ln>
          <a:effectLst>
            <a:outerShdw dist="23040" dir="5400000" blurRad="0" rotWithShape="0">
              <a:srgbClr val="80808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4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457200" y="1116000"/>
          <a:ext cx="8120160" cy="6583320"/>
        </p:xfrm>
        <a:graphic>
          <a:graphicData uri="http://schemas.openxmlformats.org/drawingml/2006/table">
            <a:tbl>
              <a:tblPr/>
              <a:tblGrid>
                <a:gridCol w="1001880"/>
                <a:gridCol w="653760"/>
                <a:gridCol w="849600"/>
                <a:gridCol w="950760"/>
                <a:gridCol w="1554120"/>
                <a:gridCol w="1555920"/>
                <a:gridCol w="1554120"/>
              </a:tblGrid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late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Control +/-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Heat Shoc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eason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edicted growth yes/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Observed growth yes/n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125uL S.O.C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heck for contaminatio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4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 DNA &amp; TOP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ing if the TOP10 bugs have been contaminat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P10 No Amp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trol for input viability( + contro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372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C19 We Transfor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heck pUC19 in the Invitogen kit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sting Invitrogen recommendation,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ncentration, protoc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3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BR322 in Bug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heck if plates are ok (+contro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159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pUC19 in TOP10/ already transformed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o check if plates are ok(+ control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3-02T13:04:08Z</dcterms:created>
  <dc:creator>Simon Richardson</dc:creator>
  <dc:description/>
  <dc:language>en-US</dc:language>
  <cp:lastModifiedBy>Simon Richardson</cp:lastModifiedBy>
  <dcterms:modified xsi:type="dcterms:W3CDTF">2011-03-02T15:19:46Z</dcterms:modified>
  <cp:revision>5</cp:revision>
  <dc:subject/>
  <dc:title>Slide 1</dc:title>
</cp:coreProperties>
</file>